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УЛКУСНИ ЛЕКОВИ, ЛЕКОВИ ЗА ГАСТРОЕЗОФАГЕАЛНИ РЕФЛУКС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оф. др Слободан Јанк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хибитори протонске пум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мепразол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прототип ове групе лекова. Протонска пумпа 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+/K+ ATP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, смештена на луминалној мембрани паријеталних ћелија. Инхибитори протонске пумпе се за њу везују иреверзибил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и лекови су посебно корисни за лечењ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linger-Elliso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овог синдрома и гастроезофагеалног рефлукса, јер у тим стањима блокатори Н2 рецептора немају задовољавајући ефек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и лекови из ове групе су пантопразол, лансопразол, есомепразол, рабепразо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готрајна примена ових лекова доводи до хипергастринемије и микрополипозе у антруму желу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 пацова, велике дозе су довеле до појаве карциноидних тум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хибитори протонске пум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ензимидазолни прстен у молекулу, слично Х2 блокатор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и се примењују орално, а пантопразол, лансопразол и есомепразол и интраве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и су про-лекови, који се дају у филм-таблетама, да би избегли разградњу у желу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су липофилне слабе базе, које се после апсорпције 1000 пута концентришу у каналикулима паријеталних ћелија, где се и активир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хибитори протонске пум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реверзибилно инхибирају Х/К пумп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ити их на празан желудац, јер храна омета апсорпцију за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боље је око 1 сат пре јела, јер ће се тада поклопити најјача секреција киселине са максималним присуством лека у паријеталним ћел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еме полу-елиминације им је само 1.5 сати, али делују око 24 часа, због иреверзибилне инактивације пум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хибитори протонске пум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болишу се у је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инсуфицијенције бубрега не треба смањивати д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се дају интравенски, у прва 2 дана их треба давати у инфузији, јер само тако могу постићи пуну инхиби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локорају 98% секреције кисе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и су сличне ефик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хибитори протонске пум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обоља, пролив и бол у трбуху у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ањује апорпцију витамина Б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ћа учесталост цревних и респираторних инф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гастринемија, чије последице нису још познате (карциноид ? Карцином колона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теракције инхибитора протонске пумпе са другим леков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метају апсорпцију лекова којима је потребан низак пХ: кетоконазола, дигоксин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болишу се преко ЦИП2Ц19 и ЦИП3А4, па могу инхибирати метаболизам кумарина, диазепама и фенито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нсопразол може да убрза елиминаију теофи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астро-езофагеални рефлу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вља се код око 15% одраслих ос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држај желуца се враћа у езофагус због лоше функције гастроезофагеалног спо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Узроци рефлу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лабост доњег езофагеалног сфинктера, код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клеродерм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Трудноћ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ушењ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имене антихолинергичких леко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имена бета-агониста, аминофилина, нитрата, блокатора канала за калцију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већан волумен желудачног садржаја (после оброка, код опструкције пилорус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већан притисак у желуцу (гојазност, трудноћа, асцит, одећа која стеж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Близина желудачног садржаја гастроезофагеалном споју (при лежању, при савијању, хијатус херниј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оследице рефлу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ала слузокоже једњ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иброза и стриктура код око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плазија плочасто-слојевитог епитела једњака у цилиндричан интестинални епител: Баретов езофагус, који предиспонира за настанак карцинома једњ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имптомат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руш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ол иза грудне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ша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утарња промукл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ежано гут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ала респираторних пут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Антац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нтацид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 једноставни лекови који реагују са протонима у лумену желуца. Антациди који садрже алуминијум стимулишу ѕаштитне функције желудачне слуѕокоже. Они ефикасно смањују учесталост рецидива пепричког улкуса ако се узимају редовно у довољно великим доз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популарнији антациди су магнезијум хидрокси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g[OH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алуминијум хидрокси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OH]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и лекови се готово не апсорбују из гастроинтестиналног тракта. Магнезијум хидроксид делује лаксантно, а алуминијум хидроксид изазива опстипацију. Зато се често примењују у комбинациј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лцијум карбонат и натријум бикарбонат се апсорбују из гастроинтестиналног тракта. Због тога се ређе користе од претходна два антац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зофагоскопија са биопс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зофагограф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рнштајнов тест – инфузиј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HCl</a:t>
            </a: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зофагус изазива бол ако постоји рефлуксна бол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4-часовно праћење пХ у једњаку и фаринк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Циљеви лечења: отклонити симптоме, излечити ерозивни езофагитис и спречити компликац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ормализација телесне теж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дигнуто узглављ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станак пушењ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станак уношења масне хране, чоколаде, кафе, алкохола, ментол бомбона, сока од поморанџ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станак уношења много течности са хран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бацити лекове који доводе до релаксације сфинкте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ечење рефлу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 блажим случајевима, довољна је примена блокатора хистаминских Х2 рецепто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Ранитидин, 150 мг на 12 часо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Фамотидин, 20 мг на 12 часо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изатидин, 150 мг на 12 часо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Блокатори протонске пумпе су ефикасниј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мепразол, 20 мг дневн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Лансопразол, 30 мг дневн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антопразол, 40 мг дневн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Есомепразол, 40 мг дневн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Терапија траје 8 недеља, и излечи езофагитис у 90% случаје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Лек се узима пола сата пре обро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д болесника који слабо реагују доза се може удвостручити или дати у две дневне доз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жељена дејства антисекретор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гастринемија (не повећава ризик од карциноида или тумора желуц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ежана апсорпција витамина Б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ко терапија лековима не успе, ради се фундопликац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еликоб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ам-негативни, микроаерофилни штап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лази се испод мукозног слоја, закачен за епителн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 свега је присутан у антру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лика је слова С латиницом, и има више флаг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же да пређе у кокоидну форму, у којој преживљава неповољне у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еликоб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развијеним земљама 20-50% особа има хеликобактер, а у неразвијеним и до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носи се феко-оралним и орално-орални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аба хигијена је повезана са већим процентом 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е се код 90% особа са дуоденалним улкусом и 30-60% особа са улкусом желу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Шта хеликобактер изази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лкус желу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лкус дуоден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стрични МАЛТ лимф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рцином желу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вазивни тест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еаза тест – биоптат антралне слузнице се стави у гел који садржи уреу и индик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столошки преглед – бојење бактерије са бојом Гимза или среб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ултивисање узорка слузо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Неинвазивни тест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еа тест у издахнитом ваздуху – пацијент попије раствор са обележеном уреом са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 или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; ако има хеликобактера, његова уреаза разложи уреу, па се обележени угљеник угради у СО</a:t>
            </a:r>
            <a:r>
              <a:rPr b="0" lang="sr-C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и нађе у издахнутом ваздух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ивање антигена хеликобактера у стол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ивање антитела у серу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да радити тесто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ове не радити пре истека 4 недеље од престанка антибиотске терапије, јер ће дати лажно негативан резул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ролошки тест се понавља тек после 6 месеци од краја терапије, јер ниво антитела споро опада у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исопрост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лог ПГЕ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о се апсорбује и метаболише до активне слобод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 полу-елиминације је 30 мин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имулише секрецију мукуса и бикарбоната, побољшава проток крви кроз мук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 се за превенцију улкуса код болесника који хронично користе НС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азива пролив и грче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имулише контракције уте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Ерадикација хеликоб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а треба да траје минимум 14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1533240" y="2209680"/>
            <a:ext cx="3812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острука терапија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змут субсалици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ронида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трацик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острука терапија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мепра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аритромиц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ронидазол или амоксици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творострука терапиј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мепра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змут субсалици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ронида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трацик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жељена дејства ерадикацио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змут изазива црне столице, опстипацију и црн је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моксицилин изазива псеудомембранозни колитис у око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моксицилин изазива и пролив, мучнину, повраћање, оспу, алерг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трациклини изазивају оспу, ретко оштећење јетре и алерг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укралф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укралфат 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уминијум сукроза сулфат, слабо растворљив молекул који полимеризује у киселом желудачном соку. Он се везује за улкус и формира заштитни покрив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ње од 3% лека се апсорб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њега је показано да убрзава зарастање улкуса желуца и да смањује учесталост рецид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а се узимати 4 пута дневно. Не апсорбује се значајно, па нема ни нежељених ефекат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 се за превенцију крварења код стрес улкуса, јер за разлику од Х2 блокатора не повећава учесталост респираторних инф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локтори Х2 рецеп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метидин, ранитидин, фамотидин и низати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о се апсорбују, али се метаболишу већ при првом проласку кроз јетру (50%), изузев низат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ме полулиминације је до 4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болити се излучују урином, па инсуфицијенција бубрега доводи до њиховог нагомил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хибирају дејство хистамина на паријеталне ћелије, смањујући секрецију киселине и волумен желудачног с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хибирају до 70% секреције кисе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ше инхибирају ноћну секрецију кисе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рају се давати два пута дне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флукс гастро-езофаге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ептички ул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спепс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нција крвављења код гастритиса изазваног стре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 интравенске примене изазивају конфузију, халуцинације и агитацију код стар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метидин блокира дејство тестостерона, инхибира метаболизам естрогена и повећава ниво пролактина: гинекомастија и импотенција, код жена галакторе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адикардија и хипотензија после интравенске примене; зато их треба давати споро, током 30 мин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тера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болишу се преко ЦИП1А2, ЦИП2Ц9, ЦИП2Д6 и ЦИП3А4, па инхибирају метаболизам многих лекова; то највише чини цимети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и сем фамотидина спречавају метаболизам алкохола у зиду желу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1:56:34Z</dcterms:modified>
  <cp:revision>10</cp:revision>
  <dc:subject/>
  <dc:title>Slide 1</dc:title>
</cp:coreProperties>
</file>